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6A64-B67D-4190-87F2-4A59F7E53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CB27-A11D-4F91-8E42-89C61CD19E6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B6EA-4312-4ED3-A0E0-8A69FE49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4FE9-BC58-4994-ACBF-0A74B3FC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BC35-E82F-40A0-8D02-7DB935B16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E1EE-C05F-40F0-9013-300C1E4ED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997C-CF17-4A8B-BAF9-E069C8F8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5DDF-991E-4452-90F5-213D8305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8214-C07D-45B9-AF11-91E7D53F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F181-BCF5-4816-96A0-F743F27D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A8CD-5C22-404C-B209-7CE08894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5EC8-0FD1-4289-AC69-72D28EBE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B33E-5016-4C84-BDBE-122025B3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77AB-6B55-4E04-A367-83599783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F276-B6D8-4BC1-A1AC-CAB0A69D5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het.colorado.edu/simulations/sims.php?sim=Circuit_Construction_Kit_DC_Only" TargetMode="External"/><Relationship Id="rId2" Type="http://schemas.openxmlformats.org/officeDocument/2006/relationships/hyperlink" Target="http://phet.colorado.edu/simulations/sims.php?sim=Circuit_Construction_Kit_DC_Only" TargetMode="External"/><Relationship Id="rId3" Type="http://schemas.openxmlformats.org/officeDocument/2006/relationships/hyperlink" Target="http://phet.colorado.edu/simulations/sims.php?sim=Circuit_Construction_Kit_DC_Only" TargetMode="External"/><Relationship Id="rId4" Type="http://schemas.openxmlformats.org/officeDocument/2006/relationships/hyperlink" Target="http://phet.colorado.edu/simulations/sims.php?sim=Circuit_Construction_Kit_DC_Only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228600"/>
            <a:ext cx="86868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ond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51958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3/15/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" y="1257480"/>
            <a:ext cx="1389240" cy="5524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"/>
          <p:cNvSpPr txBox="1"/>
          <p:nvPr/>
        </p:nvSpPr>
        <p:spPr>
          <a:xfrm>
            <a:off x="228600" y="304920"/>
            <a:ext cx="4114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allel Circui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057400" y="2506680"/>
          <a:ext cx="6858000" cy="304020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One bulb burns out the rest stay li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fficult to construc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s more bulbs are added they burn equally brigh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k of overheating from too little resistanc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4724280" y="380880"/>
            <a:ext cx="419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A circuit that has many paths for electricity to fl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1379520" cy="548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43000" y="76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440" y="21301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et a good night’s sleep and eat breakfast in the mornin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2712960" cy="1447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295280"/>
            <a:ext cx="8763120" cy="327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TPChart"/>
          <p:cNvGraphicFramePr/>
          <p:nvPr/>
        </p:nvGraphicFramePr>
        <p:xfrm>
          <a:off x="4508640" y="2514600"/>
          <a:ext cx="4572000" cy="42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514600"/>
                    <a:ext cx="4572000" cy="42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f the following is NOT required to construct a simple circu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6483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lb (resis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ttery (energy sour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tch (open/clo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re (conduc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AnswerNow"/>
          <p:cNvGrpSpPr/>
          <p:nvPr/>
        </p:nvGrpSpPr>
        <p:grpSpPr>
          <a:xfrm>
            <a:off x="3460680" y="6286680"/>
            <a:ext cx="2222640" cy="444240"/>
            <a:chOff x="3460680" y="6286680"/>
            <a:chExt cx="2222640" cy="444240"/>
          </a:xfrm>
        </p:grpSpPr>
        <p:sp>
          <p:nvSpPr>
            <p:cNvPr id="90" name="ANShape"/>
            <p:cNvSpPr/>
            <p:nvPr/>
          </p:nvSpPr>
          <p:spPr>
            <a:xfrm>
              <a:off x="3460680" y="6286680"/>
              <a:ext cx="222264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NText"/>
            <p:cNvSpPr/>
            <p:nvPr/>
          </p:nvSpPr>
          <p:spPr>
            <a:xfrm>
              <a:off x="3460680" y="6286680"/>
              <a:ext cx="222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76320" y="76320"/>
            <a:ext cx="5796720" cy="914400"/>
            <a:chOff x="76320" y="76320"/>
            <a:chExt cx="5796720" cy="91440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76320" y="76320"/>
              <a:ext cx="13381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 txBox="1"/>
            <p:nvPr/>
          </p:nvSpPr>
          <p:spPr>
            <a:xfrm>
              <a:off x="1447560" y="187200"/>
              <a:ext cx="4425480" cy="730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100000">
                        <a:srgbClr val="4d0808"/>
                      </a:gs>
                    </a:gsLst>
                    <a:lin ang="5400000"/>
                  </a:gradFill>
                  <a:latin typeface="Broadway"/>
                </a:rPr>
                <a:t>Warm-U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Broadway"/>
                <a:ea typeface="Broadway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76320" y="990720"/>
            <a:ext cx="8991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Rockwell"/>
              </a:rPr>
              <a:t>Electromagnet        Fishing Derby 20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3280" y="1143000"/>
            <a:ext cx="1443240" cy="1600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236000" y="304920"/>
            <a:ext cx="1768320" cy="1904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905120" y="2971800"/>
            <a:ext cx="53337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TEP 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4327560"/>
            <a:ext cx="8991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ake out your switch and Project Worksheet.  Draw your switch in the open and  closed position if you have not already done s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3749" t="17001" r="13749" b="11002"/>
          <a:stretch/>
        </p:blipFill>
        <p:spPr>
          <a:xfrm>
            <a:off x="457200" y="533520"/>
            <a:ext cx="8001000" cy="6000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3200400"/>
            <a:ext cx="4267080" cy="2362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-Up: EFD STEP 2: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Circuit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 good night’s sleep and eat breakfa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not required to create a working circu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 Objective</a:t>
            </a:r>
            <a:br>
              <a:rPr sz="4400"/>
            </a:br>
            <a:fld id="{E5DB5683-401D-4C9E-A8E9-ECA4488C2446}" type="datetime2">
              <a:rPr b="1" lang="en-US" sz="2400" spc="-1" strike="noStrike">
                <a:solidFill>
                  <a:srgbClr val="000000"/>
                </a:solidFill>
                <a:latin typeface="Arial"/>
              </a:rPr>
              <a:t>Thursday, July 30,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66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onstruct series and parallel circuits using wires, light bulbs, switches, and an energy source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-a-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the bulb at your table by creating a simple circuit using the materials provided to your lab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REQUIRED TO BUILD A CIRCU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, demonstrate that each person has a switch that works by wiring it into your circuit and turning your light on and o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THE TEACHER THAT YOUR SWITCH WORKS SO WE CAN GIVE YOU 3 POINTS ON YOUR PROJECT WORKSH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the website below and practice building series and parallel circu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het.colorado.edu/simulations/sims.php?sim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=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ircuit_Construction_Kit_DC_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green “RUN NOW” button to begin the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TO THE NEXT SLIDE FOR DIRECTION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ies and Parallel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a series circuit using wires, a battery, and 3 bul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the number of batteries, what happe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one of the bulbs, what happe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a parallel circuit using wires, a battery, and 3 bul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e brightness of the bulbs compare to the series circu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one of the bulbs, what happe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advantages and disadvantages of each type of circuit based on your experience with them? (See pages 64-6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791320" y="1066680"/>
            <a:ext cx="2655720" cy="4876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18125" t="18999" r="40628" b="31003"/>
          <a:stretch/>
        </p:blipFill>
        <p:spPr>
          <a:xfrm>
            <a:off x="457200" y="1828800"/>
            <a:ext cx="464832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3754440" cy="377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"/>
          <p:cNvSpPr txBox="1"/>
          <p:nvPr/>
        </p:nvSpPr>
        <p:spPr>
          <a:xfrm>
            <a:off x="228600" y="304920"/>
            <a:ext cx="4114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eries Circui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114800" y="2467080"/>
          <a:ext cx="4876920" cy="3095640"/>
        </p:xfrm>
        <a:graphic>
          <a:graphicData uri="http://schemas.openxmlformats.org/drawingml/2006/table">
            <a:tbl>
              <a:tblPr/>
              <a:tblGrid>
                <a:gridCol w="2438280"/>
                <a:gridCol w="2438640"/>
              </a:tblGrid>
              <a:tr h="71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tag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dvantag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Simple to construc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ne bulb goes out they all go ou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ulbs get dimmer as more are add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4572000" y="317520"/>
            <a:ext cx="441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A circuit with only 1 path for electricity to fl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3733560" cy="38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0:13:27Z</dcterms:created>
  <dc:creator>CCPS</dc:creator>
  <dc:description/>
  <dc:language>en-US</dc:language>
  <cp:lastModifiedBy>CCPS</cp:lastModifiedBy>
  <dcterms:modified xsi:type="dcterms:W3CDTF">2010-03-16T00:14:17Z</dcterms:modified>
  <cp:revision>3</cp:revision>
  <dc:subject/>
  <dc:title>Slide 1</dc:title>
</cp:coreProperties>
</file>